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5.jpeg" ContentType="image/jpeg"/>
  <Override PartName="/ppt/media/image20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DEC-47AF-4560-BF38-57F0EF28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6CD-52A9-414D-863F-A714880F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F82-FA6E-4C1D-9649-6BB98977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BAA-D44A-46A7-8765-7F1A0AC1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69E-3DEB-40B6-A60F-001B0DE1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91C-A130-4A8B-88F1-68201F7C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4AC-747F-4FBF-928C-A6DC23C7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825-6D28-4F63-83BA-DECE1C9C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6B2-165D-4B70-B984-6B91E550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7C0-610D-4B2D-BF06-5AED04E3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301-A166-4FCB-A739-A0584B35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80C-04B6-4B57-8AED-E162DD17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E3A4-30E5-4BD2-B38E-948BFB102977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6.wmf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Project Status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W. Klebsch / L. B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41480" y="554040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1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876400" y="5540400"/>
          <a:ext cx="9144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84760" y="5540400"/>
          <a:ext cx="914400" cy="71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476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821120" y="5535720"/>
          <a:ext cx="914400" cy="714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55357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900440" y="5157720"/>
            <a:ext cx="50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teckbreif   Styleguide        UE          Featurelist    dHW 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829480" y="5540400"/>
          <a:ext cx="914400" cy="7142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9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324000" y="1197000"/>
            <a:ext cx="82962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Integration Management - approach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Facts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abil Aries S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Very short term development tim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Consequence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abilisation and protection of the SW MUST be managed and controlled through out the whole development cycle 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rict planning of integr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Filtering sw maturity deliverires (Qualitity gates, tests)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Non-immediate workflo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cremental integration sequence (layer dependencie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Release Management: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terative process with main release every second week, bugfix follow the week aft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learQuest bug tracing from the sta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All development on one DB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eek to avoid distributed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SCRUM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 approach (i.e. target for next release etc.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IDB in BEJ with Aries SVN 2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CDB in AAL in sync 09.02.20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Workflow TBD in workshop (wk 07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Definition of a SW packages from SIS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neak preview from PSE/STSL/SISL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Release Manage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racking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OTC (Official Tool Chain) TBC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Production tooling (Lauterbach, winswup, bfc, etc.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Introduction / background (Koh Kheng Wah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urrent project setup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1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statu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process (tailoring) – Thomas Barte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Milestones for HW/SW/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plit in 3 main groups:  HW, SW and 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W: define work packages, feasibility study, CM scenario, contractors, contrac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HW: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suppli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totype shops (LCM1 &amp; 3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which prototype runs take place whe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-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6:00-17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oject Organiz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0040" y="1676520"/>
            <a:ext cx="4376880" cy="419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1447920"/>
            <a:ext cx="2333520" cy="4867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000" y="95868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…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s agreed with Voda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1120" y="95868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ith Aries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Design – current stackup (SGlit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59072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3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1/03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5/04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4/07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1/08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31/08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4/09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9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6/10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ftware Effort Estim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817560"/>
            <a:ext cx="83818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ftware Effort Estim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787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10T09:41:40Z</dcterms:modified>
  <cp:revision>119</cp:revision>
  <dc:subject/>
  <dc:title>PowerPoint</dc:title>
</cp:coreProperties>
</file>